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BCF-0BE1-4FCF-8CDC-4D7B843B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3889-D245-46CF-BCE8-8AF8EF03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F870-4266-4C15-A84F-1CC767E7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6B23-DEED-4D25-9036-A0D77976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167-F96C-4686-817A-1C4AB632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337-FAB6-4583-9568-BFA5D4A8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E3F-227F-4E78-BE08-A45A7551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068E-FEF4-4D84-B223-6299C63B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792-953D-4A17-91E4-0911F977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183-8B2A-4AFC-A459-283D4B20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9AE-32AB-42EC-9E14-9D4FF309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A172-A81A-48CE-A530-97915D49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A406-4FD4-4B7B-8DD1-6378ABA49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urveymonkey.com/s/WHSNetbook2010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ell Ringer </a:t>
            </a:r>
            <a:r>
              <a:rPr b="1" lang="en-US" sz="6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  3x – 6 = 3(x -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 5(2x – 3)&gt; 4(5x – 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2"/>
              <p:cNvSpPr txBox="1"/>
              <p:nvPr/>
            </p:nvSpPr>
            <p:spPr>
              <a:xfrm>
                <a:off x="1295280" y="1295280"/>
                <a:ext cx="198144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x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gebra Solv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e wheels on the Bus go Round and Rou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3049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w do you solve in Algebra, Algebra, Algeb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w do you solve in Algebra? This is what you d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st you need to Distribute, Distribute, Distribu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st you need to Distribute. Then go to step tw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n you combine the similar terms, similar terms, similar term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n you combine the similar terms. Then go to step thre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w get x’s on one side, on one side on one sid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w get the x’s on one side.  Now step three is throug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ve constants to the other side, other side, other sid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ve constants to the other side.  WOW we’re almost through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vide by the number in front of x, front of x, front of x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vide by the number in front of x. The problem’s solved we’re through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at if the variables are gone, variables are gone, variables are gon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at if the variables are gone, there are two possible solutio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 the ending statement is true, statement is true, the statement is tr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f the ending statement is true, the solutions is ALL NUMBERS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the ending statement is false, statement is false, the statement is fa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the ending statement is false, the solutions is NO SOLUTIO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est Results 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at Happened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udents with 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 =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 =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 =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 =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Program Files (x86)\Microsoft Office\MEDIA\CAGCAT10\j0286034.wmf"/>
          <p:cNvPicPr/>
          <p:nvPr/>
        </p:nvPicPr>
        <p:blipFill>
          <a:blip r:embed="rId1"/>
          <a:stretch/>
        </p:blipFill>
        <p:spPr>
          <a:xfrm>
            <a:off x="3795840" y="1676520"/>
            <a:ext cx="4587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hat’s Nex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600" y="14479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 will be split in groups of 3 to make corrections on your test.  Each team will have a leader.  The first one listed in bold print will be the team leader.  The leader’s responsibility is to facilitate the group.  You will have 30-40 minutes to make corrections on your test. In order to receive any points you will need to do 2 things: show all work, and write at least 1 sentence on what step you did incorrect and what change you made in order to fix your problem.   Please put your corrections on a separate sheet of pap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t’s say I tried the problem 2x-3=1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 my original work I multiplied 13 by 2 first and than add 3 to get the answer of x= 29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rrec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x-3 = 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+ 3=+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2x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=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 = 8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needed to add 3 first than divide by 2 seco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at to do when done?!?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 You will need to get on our wiki site and click on this link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rveymonkey.com/s/WHSNetbook20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a survey about what you think about the net books. Please be honest, you are molding the future generation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you need to blog under 10/28 of what helped you the most today, was the corrections you did helpful to you, why or why not.  There needs to be 2-3 sentences tot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Worksheet in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oups for corr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1-CHRIS, mary, evan, jess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2 – ERIC, matt D, bryan, ty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3 – LAYNE, cody, monica, domi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4 – KATIE, Dennis, brett, Adrian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5 – JAYNA, Drako, Britt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6 – LATIA, matt P, m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7 – JESSICA, leslie, ch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2:20:47Z</dcterms:created>
  <dc:creator>Owner</dc:creator>
  <dc:description/>
  <dc:language>en-US</dc:language>
  <cp:lastModifiedBy>zz1</cp:lastModifiedBy>
  <dcterms:modified xsi:type="dcterms:W3CDTF">2010-10-28T12:58:06Z</dcterms:modified>
  <cp:revision>6</cp:revision>
  <dc:subject/>
  <dc:title>Bell Ringer </dc:title>
</cp:coreProperties>
</file>